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99.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33.xml.rels" ContentType="application/vnd.openxmlformats-package.relationships+xml"/>
  <Override PartName="/ppt/notesSlides/_rels/notesSlide175.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D795-222F-4033-86A1-06B4D7ABFD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CA50-81FC-4CEF-95B6-72492B81AB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8BBD-1B89-4434-8609-F8A6243A0F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2178-3003-4F3C-A8A3-A832C13E70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C71E-3E04-47E0-A796-8770D43767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7635-ACBB-46D9-90D6-53DB289D1C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F0F6-6064-48FC-8082-3E4FF4EC33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DBD1-29E5-4EC2-B9F4-7A53686FC9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F8A8-02CE-4D6F-B6E8-59A6191A22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10BB-2FB9-4F58-B154-5D71AF9EB4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0703-4372-4399-92B2-4D1C62FEC4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4D55-952B-41EB-B2B4-992E1FA3CE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1BE2-DEE4-47BD-94D6-A930A183F9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951E-8A1C-4EE7-976B-B356EDB048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DED7-0C54-466A-A506-62F69AF87C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D730-81B7-484E-87B6-25DF7C0D6D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89F9-0E2E-437D-A502-DAB97188B2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0A33-502F-4365-A1A8-CB06ABE7DF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C4EE-151B-472B-ADCB-F9D177F13D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2AAC-191E-4121-B412-EE00D74EB5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1EA7-B1FA-4518-8325-41153D7825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ED43-4188-4568-AC62-C18CF5969A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4142-A77E-4316-BAC9-BF843D8688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950E-C1EF-4310-9D7E-7F5E8D2166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290E-71BA-46E3-BF34-F13357B317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DA3E-3904-4331-83D7-7B740DB1BD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2D38-9019-4DFC-8815-A69D00DEAC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F8B1-211A-4634-9061-529A62A462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1EEC-45E4-4FD4-9C1B-BE708E061C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D6E9-840B-415C-A942-75F224B04B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0F23-50DD-4022-882A-953C22129A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6BA3-3A30-4729-AF84-340D1EE4EA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5542-FA53-491B-ACA3-C1C2BD4418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0788-BD26-428E-83FF-2FD603F54A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FD0E-5C41-453A-8B7F-38C1DA8867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A92B-14F9-4E55-A55B-DDB37E2D60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2CC9-010B-4986-8513-498DE05BFD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88A2-062F-4B29-88E0-0DA9ABC02C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9BC5-E432-4340-B9C9-8D57CC6E74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A37B-2BB5-4AD6-8012-50300222E9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0E4B-BC80-439E-854E-982BA11D8F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C2CD-F431-4397-ACA6-23502455E8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8F89-14D2-46D0-8032-3C5A2FD1C1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1829-455C-43D6-B12B-DF50CECFB9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35D6-4B1E-449F-9B56-97DFBA8AD3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7500-7210-4F44-AC69-BC6DB1784E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78CF-CC14-4A3A-9FD2-E685FA65ED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E8AC-BF2C-47F2-8088-87DEAAF618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1731-0009-41CD-90DD-C4E76E0FE2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9202-6A0F-4E9E-9774-441B7EE67D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80BA-EDF5-4661-9794-BC17EDFB20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27BC-46D0-43E4-AF60-5FD514D048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B292-26B6-435C-BCAB-58D3DB11EF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4546-59A1-42DB-946E-E46B117201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EB16-D867-4018-9F5D-83B7F7F916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5683-CC12-49ED-B42E-12D136C1A0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F289-2C0F-474C-B383-08733BB328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6BDA-5484-4436-90E8-A86C635527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C54F-7E49-4FB7-95EE-D90177C22A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BE70-ACA5-4BCA-A2A0-11813B1A82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93B4-EC96-49EE-BCEE-1FF90E5453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4050-D5BC-4650-B606-BC68742A26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7E56-40AD-4386-AF49-A8496E85DD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BC75-8354-47EF-8B40-891690AA31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5D23-C892-4FC2-AA7C-E9A9D9FAFF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DEF5-0DDD-4576-838B-B23C95E1F1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4A38-1258-4A2A-97D0-16E70E1C12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E004-03F0-4501-8D57-8D436C49A1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CDF6-FA97-4BC0-ABA7-1791212B04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6DCA-115F-4D37-A05E-35450C3E87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20A2-D95C-4BB9-A276-573CB70FD7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B9D6-D6ED-4311-ABA2-8B33D6A7BE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4585-5053-4208-B59A-8BC5870294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5175-4F3B-4A07-BEC4-BDF9353721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56C7-586D-427B-AE72-58D3688A98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D607-E758-4D12-8ECF-0B5338AD67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5D53-2495-4438-B81F-390CB51036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59EF-3975-4673-8BF9-58C4CD33AA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9C69-DCA4-483D-8403-B8D0DB9B45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88ED-876D-4EBC-827B-C7589DB665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8168-5059-4066-9D17-B803BC01CE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4DF3-85F6-411D-A0CF-4E12502A85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9840-117A-44C2-B0BE-A08F35EBBB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0953-7EEE-438C-84AE-88E6775573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941C-0EBA-40A1-8002-51C88A8A3F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B4AB-66D1-464B-AD8D-E140095109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070E-2636-4B83-AA30-4B020EE780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BAF9-DA3A-4382-A029-F466BC6CF4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B50C-39CC-4043-B7B9-0A1AEDD5CC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B4A8-1656-4392-AEE4-0102D84E5E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2056-077C-44FB-B369-BE22B70138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DA0A-DC8C-4841-97F5-B53797C6A2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D96D-AF01-4D1C-8177-E719FB6BA3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015D-A82A-4A8D-8C5A-7CCD84AFDF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F751-6647-4CBE-9A4F-45D5607CFE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CE40-CD64-4767-80C9-D52F772C00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58E1-B768-4645-8888-848715755F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81BA-3F51-42C5-9098-B74B6C5659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A858-7869-4283-9B04-682F740702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9ECF-5A8B-4893-8E97-7D3F5E3347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3D96-C45B-4332-B79A-9746CFB128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F25D-B178-4F5C-B267-EDD44B7AFC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DF4A-0458-42BD-BC0C-717D7EA123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9E64-7C98-41DF-9136-4B1DC5B8EE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6C72-AD0D-4737-A8AC-A63DE8A2DB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9765-BED5-4F40-A664-EE355F1DB2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9791-672B-46F0-86F1-D2B396C10B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8D24-FCC3-47C6-855C-8C315C6D9B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8248-E816-4C59-9D13-F59404D47D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498F-6D39-4616-A069-22A1421961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47A0-C49D-4B8D-B15A-66E6D5B1C1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4E7A-7F8B-4E59-AB54-F67ED6FB91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5147-DC7B-4C50-8E66-1B010E0FD8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1E23-4F64-42E9-968E-82051DE989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35FC-D475-46A1-9A84-474A7D37B4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9A83-AF91-45FC-9B8D-B1BB1DB438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9168-3B4C-4552-82C6-AC608822F0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5AA1-2D97-4965-98A4-113B721612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90B6-8632-4E3A-92BF-3A1B5DDF9F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21BF-D4C1-4642-947C-0CEA86801F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E0A2-FC45-401E-BF9B-7881557C3B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80D1-A2A2-468C-A2D1-DE5705D1B0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69A3-624C-4157-A51C-6A805BEDBC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E5B0-3662-4684-B5AE-508E9672D0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08B3-8DC1-4DB0-91F6-EA8CD122AB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3261-24D5-4032-A56A-7987EFEB80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6DCD-CDD7-41DD-A898-7D91F6AEE6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C6C5-EB37-4D64-8F26-1D18962297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1B9C-5BDD-4EFB-80FA-C658B87B97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DB83-C286-4071-8F75-D0B5528377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A984-55E3-4A1A-AFED-B769021A2A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4CA7-7CB5-420A-9C3E-7E15058714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223-6F1C-41BC-8255-BABD5C7591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B8F1-D4F0-4BDA-A311-B1F009673B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A03D-097D-4D86-B378-E7B3D9AE18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4B48-3FC3-4C11-8A02-4DE54728D3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E122-5FC1-4556-B5D5-1A612028B5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1040-4B4B-43B8-ABA4-A3E5BCBCE8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5A8B-5E87-4C9F-BD1B-ED98611B62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4AED-CA37-4677-9B13-9DEF9BF0B4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237C-E8D4-4266-AC0F-E54A5D27BA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29B9-2772-49EC-BDA9-689986FF7F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E9C6-6FA0-49A2-8D4F-57414DED57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12A9-3E03-4C2E-A287-D0D1F5B274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C180-35C5-41B4-92DD-19FE4599B7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30A8-010A-455B-961D-806391E359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BDBB-90D6-4FE8-8883-F83CEFCE84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29EE-8844-4F04-8A4C-3E210C841E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839F-93D9-4509-AE91-631D941665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73A1-148F-4268-A131-BBE3E0C872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3B15-0CFE-43D9-B2D6-4A1953DB9F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C4ED-8676-470B-B5E4-950693562F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6254-538F-4854-BC98-E307009EE7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93A4-AC14-4C1B-9D79-D385AFA6D8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A7C7-F431-4EFA-919F-9BF4A8A743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A982-1CEC-4F45-A526-DBBF2AA9F4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1C3D-D16C-42AB-806F-13D919F5EC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9DE4-9FD0-4B1A-B28B-35909B43F4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4D5F-5972-4A93-8E80-3A09F4A021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6ACE-8E91-47A6-8829-6E45A6B8A1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FD1C-646F-4B2B-826A-BE004BCE5D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AD3C-FDFE-4F75-9B71-A2A436A335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37F4-DAFE-4BAA-BD2A-37DA21C39C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BB57-242E-47A9-BDA0-544A6FCB1F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70F4-EC02-4DA5-813D-27C9B85693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E8B7-AE87-4A81-AB29-FC86C3FC93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9A51-F09A-4B8E-8B25-52EA32D2B5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FA65-8800-42BD-BAA2-D4C763374D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AB9A-9751-4994-8B18-DA3C679013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D389-47F4-490A-9E97-79C009EDA1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F715-6537-4069-8DE7-1547601DB5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7701-E365-4D94-BAFA-3FEF4A8564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4313-2055-4DE2-B183-9BCEA42DA2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7935-6BED-4812-9AEC-EC82D50EBB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443C-8663-4182-AD39-344B94B3F1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7F3D-78CB-45FB-B381-668A2B3C16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70D1-44B6-4DA6-98A1-2D5CFE93FA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6F9E-E0D6-4D8F-A630-84782760BE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AC5C-EDEF-4FD8-BDA1-BE2905D1B9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7840-4142-4E05-A89B-A540521AA1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729F-EF89-44AB-B356-2796DEAEBD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50E8-A856-4408-B464-CFC23C8FDE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E44E-7AE0-41A8-8438-E4C22BA67C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4406-D4F2-4931-8BBE-91E333F5C6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C232-F6D3-482D-AA39-42FBE95473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3BCB-92A7-4197-8A4B-26D8B7F0DF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903F-7E9C-41D8-A9AB-CF5A21D726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DABC-EB62-4D8F-AC73-2426B43C58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D29B-555F-479F-BC73-548AF4FE80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6F81-3A92-48A9-A9EB-B0E595D4C0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F94B-2C3C-459E-94F4-3D25CCA13B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8DBF-FA54-4459-96FA-FC9E5F531F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1AD0-56AF-4D2B-9D72-E3BF77F67D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A770-E5E8-4DE1-837C-A38714704F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59F1-0982-45C7-8AC0-6F4395E433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A9BC-FE6D-4877-BE3E-93DBFCB91E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E0E3-D233-45D0-88C7-7A0A8E0CDF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3E2E-E464-4D06-9830-48391F7994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B84C-DF38-48FC-BD5A-1625C86895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A6FF-7BD5-40E4-880F-AFF43032C3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E002-45CF-4C5F-87A3-A37CDFFC89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65E4-4D9E-4A7F-8EDE-C776D5604F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65E2-3420-4C57-A903-A217C4E4DE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4461-3593-4135-AF80-7C0DA9175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24FCA-6079-4136-A5BB-533A6F62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EB1DD-8EDB-482B-84C5-F7E7E1E99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83EE9-CB26-406A-9711-28E501F1E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C5FC9-F082-400C-8011-5CC87217C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1A9AE-9C83-44BC-98C3-5620F1B88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B749-363C-4FB6-9C66-D0826F5EF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CD248-EFB9-4B84-AE27-6D9F4E8A5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5EC4-BDBF-4739-B1F9-3521BD7C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B5FF-785E-42F4-8990-4CF1C521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257C-6F86-4A82-AB14-4E685296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EB4E-4981-4D8A-A9E0-CE773A62E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05EF-1082-4D5B-BA03-AD33824D950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2.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assroom Competi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Created by: Malene Golding</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chool Improvement Officer: Kimberly Fonteno</a:t>
            </a: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83808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Look for some old people in clean clothes.</a:t>
            </a:r>
            <a:endParaRPr b="0" lang="en-US" sz="72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80880"/>
            <a:ext cx="7772400" cy="42516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Write down the name of the book in the first box.</a:t>
            </a:r>
            <a:endParaRPr b="0" lang="en-US" sz="70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590560"/>
            <a:ext cx="7772400" cy="14317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One day he said, "I will not live long now.”</a:t>
            </a:r>
            <a:endParaRPr b="0" lang="en-US" sz="72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600200"/>
            <a:ext cx="85345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e ran too close to 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761760"/>
            <a:ext cx="7772400" cy="371772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e will both leave now and go in fast car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9144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at do you carry in such a big letter box?</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456840"/>
            <a:ext cx="7772400" cy="42512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In a year, bring back the best thing you have found.</a:t>
            </a:r>
            <a:endParaRPr b="0" lang="en-US" sz="70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1447560"/>
            <a:ext cx="7772400" cy="326052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 sister went on another ride until seven o’clock.</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800"/>
            <a:ext cx="7772400" cy="41911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Though I don't think that would work, I will try again.</a:t>
            </a:r>
            <a:endParaRPr b="0" lang="en-US" sz="70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828800"/>
            <a:ext cx="7772400" cy="2286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y do you seem so sure?</a:t>
            </a:r>
            <a:endParaRPr b="0" lang="en-US" sz="72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914040"/>
            <a:ext cx="7772400" cy="33526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e wash the clothes clean with hot water.</a:t>
            </a:r>
            <a:endParaRPr b="0" lang="en-US" sz="72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914040"/>
            <a:ext cx="7772400" cy="39625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Also, it does not fly any more because it got cut.</a:t>
            </a:r>
            <a:endParaRPr b="0" lang="en-US" sz="70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I wish you would give it to m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762120"/>
            <a:ext cx="7772400" cy="39621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At night, he went to sleep under a round yellow ball.</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90360"/>
            <a:ext cx="7772400" cy="36003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meone might order cold wat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838080"/>
            <a:ext cx="7772400" cy="335304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Every day he took eight or ten.</a:t>
            </a:r>
            <a:endParaRPr b="0" lang="en-US" sz="8000" spc="-1" strike="noStrike">
              <a:solidFill>
                <a:srgbClr val="000000"/>
              </a:solidFill>
              <a:latin typeface="Calibri"/>
            </a:endParaRPr>
          </a:p>
        </p:txBody>
      </p:sp>
      <p:sp>
        <p:nvSpPr>
          <p:cNvPr id="3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5" descr="dglxasset[1]"/>
          <p:cNvPicPr/>
          <p:nvPr/>
        </p:nvPicPr>
        <p:blipFill>
          <a:blip r:embed="rId1"/>
          <a:stretch/>
        </p:blipFill>
        <p:spPr>
          <a:xfrm>
            <a:off x="2209680" y="380880"/>
            <a:ext cx="4800600" cy="5029200"/>
          </a:xfrm>
          <a:prstGeom prst="rect">
            <a:avLst/>
          </a:prstGeom>
          <a:ln w="0">
            <a:noFill/>
          </a:ln>
        </p:spPr>
      </p:pic>
      <p:sp>
        <p:nvSpPr>
          <p:cNvPr id="3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 descr="dglxasset[5]"/>
          <p:cNvPicPr/>
          <p:nvPr/>
        </p:nvPicPr>
        <p:blipFill>
          <a:blip r:embed="rId1"/>
          <a:stretch/>
        </p:blipFill>
        <p:spPr>
          <a:xfrm>
            <a:off x="2057400" y="22860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219320"/>
            <a:ext cx="7772400" cy="3200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Some said it was best to run and jump and play.</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5" descr="dglxasset[1]"/>
          <p:cNvPicPr/>
          <p:nvPr/>
        </p:nvPicPr>
        <p:blipFill>
          <a:blip r:embed="rId1"/>
          <a:stretch/>
        </p:blipFill>
        <p:spPr>
          <a:xfrm>
            <a:off x="2209680" y="380880"/>
            <a:ext cx="4800600" cy="5029200"/>
          </a:xfrm>
          <a:prstGeom prst="rect">
            <a:avLst/>
          </a:prstGeom>
          <a:ln w="0">
            <a:noFill/>
          </a:ln>
        </p:spPr>
      </p:pic>
      <p:sp>
        <p:nvSpPr>
          <p:cNvPr id="3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4" descr="dglxasset[5]"/>
          <p:cNvPicPr/>
          <p:nvPr/>
        </p:nvPicPr>
        <p:blipFill>
          <a:blip r:embed="rId1"/>
          <a:stretch/>
        </p:blipFill>
        <p:spPr>
          <a:xfrm>
            <a:off x="2057400" y="22860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143000"/>
            <a:ext cx="7772400" cy="3124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Yes, you may have it along with the new bed.</a:t>
            </a:r>
            <a:endParaRPr b="0" lang="en-US" sz="6300" spc="-1" strike="noStrike">
              <a:solidFill>
                <a:srgbClr val="000000"/>
              </a:solidFill>
              <a:latin typeface="Calibri"/>
            </a:endParaRPr>
          </a:p>
        </p:txBody>
      </p:sp>
      <p:sp>
        <p:nvSpPr>
          <p:cNvPr id="3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5" descr="dglxasset[1]"/>
          <p:cNvPicPr/>
          <p:nvPr/>
        </p:nvPicPr>
        <p:blipFill>
          <a:blip r:embed="rId1"/>
          <a:stretch/>
        </p:blipFill>
        <p:spPr>
          <a:xfrm>
            <a:off x="2209680" y="380880"/>
            <a:ext cx="4800600" cy="5029200"/>
          </a:xfrm>
          <a:prstGeom prst="rect">
            <a:avLst/>
          </a:prstGeom>
          <a:ln w="0">
            <a:noFill/>
          </a:ln>
        </p:spPr>
      </p:pic>
      <p:sp>
        <p:nvSpPr>
          <p:cNvPr id="3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4" descr="dglxasset[5]"/>
          <p:cNvPicPr/>
          <p:nvPr/>
        </p:nvPicPr>
        <p:blipFill>
          <a:blip r:embed="rId1"/>
          <a:stretch/>
        </p:blipFill>
        <p:spPr>
          <a:xfrm>
            <a:off x="2057400" y="228600"/>
            <a:ext cx="4267080" cy="495288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 want to get some water from the well," she said.</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5" descr="dglxasset[1]"/>
          <p:cNvPicPr/>
          <p:nvPr/>
        </p:nvPicPr>
        <p:blipFill>
          <a:blip r:embed="rId1"/>
          <a:stretch/>
        </p:blipFill>
        <p:spPr>
          <a:xfrm>
            <a:off x="2209680" y="380880"/>
            <a:ext cx="4800600" cy="5029200"/>
          </a:xfrm>
          <a:prstGeom prst="rect">
            <a:avLst/>
          </a:prstGeom>
          <a:ln w="0">
            <a:noFill/>
          </a:ln>
        </p:spPr>
      </p:pic>
      <p:sp>
        <p:nvSpPr>
          <p:cNvPr id="4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dglxasset[5]"/>
          <p:cNvPicPr/>
          <p:nvPr/>
        </p:nvPicPr>
        <p:blipFill>
          <a:blip r:embed="rId1"/>
          <a:stretch/>
        </p:blipFill>
        <p:spPr>
          <a:xfrm>
            <a:off x="2057400" y="228600"/>
            <a:ext cx="4267080" cy="4952880"/>
          </a:xfrm>
          <a:prstGeom prst="rect">
            <a:avLst/>
          </a:prstGeom>
          <a:ln w="0">
            <a:noFill/>
          </a:ln>
        </p:spPr>
      </p:pic>
      <p:sp>
        <p:nvSpPr>
          <p:cNvPr id="40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447560"/>
            <a:ext cx="7772400" cy="2152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I took a third of it for myself.</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5" descr="dglxasset[1]"/>
          <p:cNvPicPr/>
          <p:nvPr/>
        </p:nvPicPr>
        <p:blipFill>
          <a:blip r:embed="rId1"/>
          <a:stretch/>
        </p:blipFill>
        <p:spPr>
          <a:xfrm>
            <a:off x="2209680" y="380880"/>
            <a:ext cx="4800600" cy="5029200"/>
          </a:xfrm>
          <a:prstGeom prst="rect">
            <a:avLst/>
          </a:prstGeom>
          <a:ln w="0">
            <a:noFill/>
          </a:ln>
        </p:spPr>
      </p:pic>
      <p:sp>
        <p:nvSpPr>
          <p:cNvPr id="40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4" descr="dglxasset[5]"/>
          <p:cNvPicPr/>
          <p:nvPr/>
        </p:nvPicPr>
        <p:blipFill>
          <a:blip r:embed="rId1"/>
          <a:stretch/>
        </p:blipFill>
        <p:spPr>
          <a:xfrm>
            <a:off x="2057400" y="228600"/>
            <a:ext cx="4267080" cy="4952880"/>
          </a:xfrm>
          <a:prstGeom prst="rect">
            <a:avLst/>
          </a:prstGeom>
          <a:ln w="0">
            <a:noFill/>
          </a:ln>
        </p:spPr>
      </p:pic>
      <p:sp>
        <p:nvSpPr>
          <p:cNvPr id="41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f you will let me keep it, I will always be very kind to i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5" descr="dglxasset[1]"/>
          <p:cNvPicPr/>
          <p:nvPr/>
        </p:nvPicPr>
        <p:blipFill>
          <a:blip r:embed="rId1"/>
          <a:stretch/>
        </p:blipFill>
        <p:spPr>
          <a:xfrm>
            <a:off x="2209680" y="380880"/>
            <a:ext cx="4800600" cy="5029200"/>
          </a:xfrm>
          <a:prstGeom prst="rect">
            <a:avLst/>
          </a:prstGeom>
          <a:ln w="0">
            <a:noFill/>
          </a:ln>
        </p:spPr>
      </p:pic>
      <p:sp>
        <p:nvSpPr>
          <p:cNvPr id="41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dglxasset[5]"/>
          <p:cNvPicPr/>
          <p:nvPr/>
        </p:nvPicPr>
        <p:blipFill>
          <a:blip r:embed="rId1"/>
          <a:stretch/>
        </p:blipFill>
        <p:spPr>
          <a:xfrm>
            <a:off x="2057400" y="228600"/>
            <a:ext cx="4267080" cy="4952880"/>
          </a:xfrm>
          <a:prstGeom prst="rect">
            <a:avLst/>
          </a:prstGeom>
          <a:ln w="0">
            <a:noFill/>
          </a:ln>
        </p:spPr>
      </p:pic>
      <p:sp>
        <p:nvSpPr>
          <p:cNvPr id="41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Once there were four sisters who lived in a house far away.</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5" descr="dglxasset[1]"/>
          <p:cNvPicPr/>
          <p:nvPr/>
        </p:nvPicPr>
        <p:blipFill>
          <a:blip r:embed="rId1"/>
          <a:stretch/>
        </p:blipFill>
        <p:spPr>
          <a:xfrm>
            <a:off x="2209680" y="380880"/>
            <a:ext cx="4800600" cy="5029200"/>
          </a:xfrm>
          <a:prstGeom prst="rect">
            <a:avLst/>
          </a:prstGeom>
          <a:ln w="0">
            <a:noFill/>
          </a:ln>
        </p:spPr>
      </p:pic>
      <p:sp>
        <p:nvSpPr>
          <p:cNvPr id="42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 descr="dglxasset[5]"/>
          <p:cNvPicPr/>
          <p:nvPr/>
        </p:nvPicPr>
        <p:blipFill>
          <a:blip r:embed="rId1"/>
          <a:stretch/>
        </p:blipFill>
        <p:spPr>
          <a:xfrm>
            <a:off x="2057400" y="228600"/>
            <a:ext cx="4267080" cy="4952880"/>
          </a:xfrm>
          <a:prstGeom prst="rect">
            <a:avLst/>
          </a:prstGeom>
          <a:ln w="0">
            <a:noFill/>
          </a:ln>
        </p:spPr>
      </p:pic>
      <p:sp>
        <p:nvSpPr>
          <p:cNvPr id="42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 will buy the best thing I can for my mother.</a:t>
            </a:r>
            <a:endParaRPr b="0" lang="en-US" sz="6300" spc="-1" strike="noStrike">
              <a:solidFill>
                <a:srgbClr val="000000"/>
              </a:solidFill>
              <a:latin typeface="Calibri"/>
            </a:endParaRPr>
          </a:p>
        </p:txBody>
      </p:sp>
      <p:sp>
        <p:nvSpPr>
          <p:cNvPr id="4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5" descr="dglxasset[1]"/>
          <p:cNvPicPr/>
          <p:nvPr/>
        </p:nvPicPr>
        <p:blipFill>
          <a:blip r:embed="rId1"/>
          <a:stretch/>
        </p:blipFill>
        <p:spPr>
          <a:xfrm>
            <a:off x="2209680" y="380880"/>
            <a:ext cx="4800600" cy="5029200"/>
          </a:xfrm>
          <a:prstGeom prst="rect">
            <a:avLst/>
          </a:prstGeom>
          <a:ln w="0">
            <a:noFill/>
          </a:ln>
        </p:spPr>
      </p:pic>
      <p:sp>
        <p:nvSpPr>
          <p:cNvPr id="42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dglxasset[5]"/>
          <p:cNvPicPr/>
          <p:nvPr/>
        </p:nvPicPr>
        <p:blipFill>
          <a:blip r:embed="rId1"/>
          <a:stretch/>
        </p:blipFill>
        <p:spPr>
          <a:xfrm>
            <a:off x="2057400" y="228600"/>
            <a:ext cx="4267080" cy="4952880"/>
          </a:xfrm>
          <a:prstGeom prst="rect">
            <a:avLst/>
          </a:prstGeom>
          <a:ln w="0">
            <a:noFill/>
          </a:ln>
        </p:spPr>
      </p:pic>
      <p:sp>
        <p:nvSpPr>
          <p:cNvPr id="43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 other three sisters began to laugh in her face.</a:t>
            </a:r>
            <a:endParaRPr b="0" lang="en-US" sz="6300" spc="-1" strike="noStrike">
              <a:solidFill>
                <a:srgbClr val="000000"/>
              </a:solidFill>
              <a:latin typeface="Calibri"/>
            </a:endParaRPr>
          </a:p>
        </p:txBody>
      </p:sp>
      <p:sp>
        <p:nvSpPr>
          <p:cNvPr id="4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5" descr="dglxasset[1]"/>
          <p:cNvPicPr/>
          <p:nvPr/>
        </p:nvPicPr>
        <p:blipFill>
          <a:blip r:embed="rId1"/>
          <a:stretch/>
        </p:blipFill>
        <p:spPr>
          <a:xfrm>
            <a:off x="2209680" y="380880"/>
            <a:ext cx="4800600" cy="5029200"/>
          </a:xfrm>
          <a:prstGeom prst="rect">
            <a:avLst/>
          </a:prstGeom>
          <a:ln w="0">
            <a:noFill/>
          </a:ln>
        </p:spPr>
      </p:pic>
      <p:sp>
        <p:nvSpPr>
          <p:cNvPr id="43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4" descr="dglxasset[5]"/>
          <p:cNvPicPr/>
          <p:nvPr/>
        </p:nvPicPr>
        <p:blipFill>
          <a:blip r:embed="rId1"/>
          <a:stretch/>
        </p:blipFill>
        <p:spPr>
          <a:xfrm>
            <a:off x="2057400" y="228600"/>
            <a:ext cx="4267080" cy="4952880"/>
          </a:xfrm>
          <a:prstGeom prst="rect">
            <a:avLst/>
          </a:prstGeom>
          <a:ln w="0">
            <a:noFill/>
          </a:ln>
        </p:spPr>
      </p:pic>
      <p:sp>
        <p:nvSpPr>
          <p:cNvPr id="43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n you will never be the same.</a:t>
            </a:r>
            <a:endParaRPr b="0" lang="en-US" sz="6300" spc="-1" strike="noStrike">
              <a:solidFill>
                <a:srgbClr val="000000"/>
              </a:solidFill>
              <a:latin typeface="Calibri"/>
            </a:endParaRPr>
          </a:p>
        </p:txBody>
      </p:sp>
      <p:sp>
        <p:nvSpPr>
          <p:cNvPr id="4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dglxasset[1]"/>
          <p:cNvPicPr/>
          <p:nvPr/>
        </p:nvPicPr>
        <p:blipFill>
          <a:blip r:embed="rId1"/>
          <a:stretch/>
        </p:blipFill>
        <p:spPr>
          <a:xfrm>
            <a:off x="2209680" y="380880"/>
            <a:ext cx="4800600" cy="5029200"/>
          </a:xfrm>
          <a:prstGeom prst="rect">
            <a:avLst/>
          </a:prstGeom>
          <a:ln w="0">
            <a:noFill/>
          </a:ln>
        </p:spPr>
      </p:pic>
      <p:sp>
        <p:nvSpPr>
          <p:cNvPr id="44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dglxasset[5]"/>
          <p:cNvPicPr/>
          <p:nvPr/>
        </p:nvPicPr>
        <p:blipFill>
          <a:blip r:embed="rId1"/>
          <a:stretch/>
        </p:blipFill>
        <p:spPr>
          <a:xfrm>
            <a:off x="2057400" y="228600"/>
            <a:ext cx="4267080" cy="4952880"/>
          </a:xfrm>
          <a:prstGeom prst="rect">
            <a:avLst/>
          </a:prstGeom>
          <a:ln w="0">
            <a:noFill/>
          </a:ln>
        </p:spPr>
      </p:pic>
      <p:sp>
        <p:nvSpPr>
          <p:cNvPr id="44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Years went by.</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Yesterday, I saw a second pair of eyes near the same room.</a:t>
            </a:r>
            <a:endParaRPr b="0" lang="en-US" sz="6300" spc="-1" strike="noStrike">
              <a:solidFill>
                <a:srgbClr val="000000"/>
              </a:solidFill>
              <a:latin typeface="Calibri"/>
            </a:endParaRPr>
          </a:p>
        </p:txBody>
      </p:sp>
      <p:sp>
        <p:nvSpPr>
          <p:cNvPr id="4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5" descr="dglxasset[1]"/>
          <p:cNvPicPr/>
          <p:nvPr/>
        </p:nvPicPr>
        <p:blipFill>
          <a:blip r:embed="rId1"/>
          <a:stretch/>
        </p:blipFill>
        <p:spPr>
          <a:xfrm>
            <a:off x="2209680" y="380880"/>
            <a:ext cx="4800600" cy="5029200"/>
          </a:xfrm>
          <a:prstGeom prst="rect">
            <a:avLst/>
          </a:prstGeom>
          <a:ln w="0">
            <a:noFill/>
          </a:ln>
        </p:spPr>
      </p:pic>
      <p:sp>
        <p:nvSpPr>
          <p:cNvPr id="45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4" descr="dglxasset[5]"/>
          <p:cNvPicPr/>
          <p:nvPr/>
        </p:nvPicPr>
        <p:blipFill>
          <a:blip r:embed="rId1"/>
          <a:stretch/>
        </p:blipFill>
        <p:spPr>
          <a:xfrm>
            <a:off x="2057400" y="228600"/>
            <a:ext cx="4267080" cy="4952880"/>
          </a:xfrm>
          <a:prstGeom prst="rect">
            <a:avLst/>
          </a:prstGeom>
          <a:ln w="0">
            <a:noFill/>
          </a:ln>
        </p:spPr>
      </p:pic>
      <p:sp>
        <p:nvSpPr>
          <p:cNvPr id="45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 one who can hand me the best thing shall be the head of this house.</a:t>
            </a:r>
            <a:endParaRPr b="0" lang="en-US" sz="6300" spc="-1" strike="noStrike">
              <a:solidFill>
                <a:srgbClr val="000000"/>
              </a:solidFill>
              <a:latin typeface="Calibri"/>
            </a:endParaRPr>
          </a:p>
        </p:txBody>
      </p:sp>
      <p:sp>
        <p:nvSpPr>
          <p:cNvPr id="4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5" descr="dglxasset[1]"/>
          <p:cNvPicPr/>
          <p:nvPr/>
        </p:nvPicPr>
        <p:blipFill>
          <a:blip r:embed="rId1"/>
          <a:stretch/>
        </p:blipFill>
        <p:spPr>
          <a:xfrm>
            <a:off x="2209680" y="380880"/>
            <a:ext cx="4800600" cy="5029200"/>
          </a:xfrm>
          <a:prstGeom prst="rect">
            <a:avLst/>
          </a:prstGeom>
          <a:ln w="0">
            <a:noFill/>
          </a:ln>
        </p:spPr>
      </p:pic>
      <p:sp>
        <p:nvSpPr>
          <p:cNvPr id="45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 descr="dglxasset[5]"/>
          <p:cNvPicPr/>
          <p:nvPr/>
        </p:nvPicPr>
        <p:blipFill>
          <a:blip r:embed="rId1"/>
          <a:stretch/>
        </p:blipFill>
        <p:spPr>
          <a:xfrm>
            <a:off x="2057400" y="228600"/>
            <a:ext cx="4267080" cy="4952880"/>
          </a:xfrm>
          <a:prstGeom prst="rect">
            <a:avLst/>
          </a:prstGeom>
          <a:ln w="0">
            <a:noFill/>
          </a:ln>
        </p:spPr>
      </p:pic>
      <p:sp>
        <p:nvSpPr>
          <p:cNvPr id="45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 am going to ask the people here in our own town to tell me the best thing.</a:t>
            </a:r>
            <a:endParaRPr b="0" lang="en-US" sz="6300" spc="-1" strike="noStrike">
              <a:solidFill>
                <a:srgbClr val="000000"/>
              </a:solidFill>
              <a:latin typeface="Calibri"/>
            </a:endParaRPr>
          </a:p>
        </p:txBody>
      </p:sp>
      <p:sp>
        <p:nvSpPr>
          <p:cNvPr id="4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5" descr="dglxasset[1]"/>
          <p:cNvPicPr/>
          <p:nvPr/>
        </p:nvPicPr>
        <p:blipFill>
          <a:blip r:embed="rId1"/>
          <a:stretch/>
        </p:blipFill>
        <p:spPr>
          <a:xfrm>
            <a:off x="2209680" y="380880"/>
            <a:ext cx="4800600" cy="5029200"/>
          </a:xfrm>
          <a:prstGeom prst="rect">
            <a:avLst/>
          </a:prstGeom>
          <a:ln w="0">
            <a:noFill/>
          </a:ln>
        </p:spPr>
      </p:pic>
      <p:sp>
        <p:nvSpPr>
          <p:cNvPr id="46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 descr="dglxasset[5]"/>
          <p:cNvPicPr/>
          <p:nvPr/>
        </p:nvPicPr>
        <p:blipFill>
          <a:blip r:embed="rId1"/>
          <a:stretch/>
        </p:blipFill>
        <p:spPr>
          <a:xfrm>
            <a:off x="2057400" y="228600"/>
            <a:ext cx="4267080" cy="4952880"/>
          </a:xfrm>
          <a:prstGeom prst="rect">
            <a:avLst/>
          </a:prstGeom>
          <a:ln w="0">
            <a:noFill/>
          </a:ln>
        </p:spPr>
      </p:pic>
      <p:sp>
        <p:nvSpPr>
          <p:cNvPr id="46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se are full of the good food which falls from my five trees.</a:t>
            </a:r>
            <a:endParaRPr b="0" lang="en-US" sz="6300" spc="-1" strike="noStrike">
              <a:solidFill>
                <a:srgbClr val="000000"/>
              </a:solidFill>
              <a:latin typeface="Calibri"/>
            </a:endParaRPr>
          </a:p>
        </p:txBody>
      </p:sp>
      <p:sp>
        <p:nvSpPr>
          <p:cNvPr id="4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Action Button: Custom 3"/>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dglxasset[1]"/>
          <p:cNvPicPr/>
          <p:nvPr/>
        </p:nvPicPr>
        <p:blipFill>
          <a:blip r:embed="rId1"/>
          <a:stretch/>
        </p:blipFill>
        <p:spPr>
          <a:xfrm>
            <a:off x="2209680" y="380880"/>
            <a:ext cx="4800600" cy="5029200"/>
          </a:xfrm>
          <a:prstGeom prst="rect">
            <a:avLst/>
          </a:prstGeom>
          <a:ln w="0">
            <a:noFill/>
          </a:ln>
        </p:spPr>
      </p:pic>
      <p:sp>
        <p:nvSpPr>
          <p:cNvPr id="47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dglxasset[5]"/>
          <p:cNvPicPr/>
          <p:nvPr/>
        </p:nvPicPr>
        <p:blipFill>
          <a:blip r:embed="rId1"/>
          <a:stretch/>
        </p:blipFill>
        <p:spPr>
          <a:xfrm>
            <a:off x="2057400" y="228600"/>
            <a:ext cx="4267080" cy="4952880"/>
          </a:xfrm>
          <a:prstGeom prst="rect">
            <a:avLst/>
          </a:prstGeom>
          <a:ln w="0">
            <a:noFill/>
          </a:ln>
        </p:spPr>
      </p:pic>
      <p:sp>
        <p:nvSpPr>
          <p:cNvPr id="47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457200"/>
            <a:ext cx="7772400" cy="4022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alibri"/>
              </a:rPr>
              <a:t>It had been cold, so he put it in his coat where it could keep warm.</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5" descr="dglxasset[1]"/>
          <p:cNvPicPr/>
          <p:nvPr/>
        </p:nvPicPr>
        <p:blipFill>
          <a:blip r:embed="rId1"/>
          <a:stretch/>
        </p:blipFill>
        <p:spPr>
          <a:xfrm>
            <a:off x="2209680" y="380880"/>
            <a:ext cx="4800600" cy="5029200"/>
          </a:xfrm>
          <a:prstGeom prst="rect">
            <a:avLst/>
          </a:prstGeom>
          <a:ln w="0">
            <a:noFill/>
          </a:ln>
        </p:spPr>
      </p:pic>
      <p:sp>
        <p:nvSpPr>
          <p:cNvPr id="47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4" descr="dglxasset[5]"/>
          <p:cNvPicPr/>
          <p:nvPr/>
        </p:nvPicPr>
        <p:blipFill>
          <a:blip r:embed="rId1"/>
          <a:stretch/>
        </p:blipFill>
        <p:spPr>
          <a:xfrm>
            <a:off x="2057400" y="228600"/>
            <a:ext cx="4267080" cy="4952880"/>
          </a:xfrm>
          <a:prstGeom prst="rect">
            <a:avLst/>
          </a:prstGeom>
          <a:ln w="0">
            <a:noFill/>
          </a:ln>
        </p:spPr>
      </p:pic>
      <p:sp>
        <p:nvSpPr>
          <p:cNvPr id="48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3124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All the people didn’t like him and they lef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3"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dglxasset[1]"/>
          <p:cNvPicPr/>
          <p:nvPr/>
        </p:nvPicPr>
        <p:blipFill>
          <a:blip r:embed="rId1"/>
          <a:stretch/>
        </p:blipFill>
        <p:spPr>
          <a:xfrm>
            <a:off x="2209680" y="380880"/>
            <a:ext cx="4800600" cy="5029200"/>
          </a:xfrm>
          <a:prstGeom prst="rect">
            <a:avLst/>
          </a:prstGeom>
          <a:ln w="0">
            <a:noFill/>
          </a:ln>
        </p:spPr>
      </p:pic>
      <p:sp>
        <p:nvSpPr>
          <p:cNvPr id="48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dglxasset[5]"/>
          <p:cNvPicPr/>
          <p:nvPr/>
        </p:nvPicPr>
        <p:blipFill>
          <a:blip r:embed="rId1"/>
          <a:stretch/>
        </p:blipFill>
        <p:spPr>
          <a:xfrm>
            <a:off x="2057400" y="228600"/>
            <a:ext cx="4267080" cy="4952880"/>
          </a:xfrm>
          <a:prstGeom prst="rect">
            <a:avLst/>
          </a:prstGeom>
          <a:ln w="0">
            <a:noFill/>
          </a:ln>
        </p:spPr>
      </p:pic>
      <p:sp>
        <p:nvSpPr>
          <p:cNvPr id="48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80520"/>
            <a:ext cx="7772400" cy="43275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They would say, “See there goes the two happy men.”</a:t>
            </a:r>
            <a:endParaRPr b="0" lang="en-US" sz="7000" spc="-1" strike="noStrike">
              <a:solidFill>
                <a:srgbClr val="000000"/>
              </a:solidFill>
              <a:latin typeface="Calibri"/>
            </a:endParaRPr>
          </a:p>
        </p:txBody>
      </p:sp>
      <p:sp>
        <p:nvSpPr>
          <p:cNvPr id="4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5" descr="dglxasset[1]"/>
          <p:cNvPicPr/>
          <p:nvPr/>
        </p:nvPicPr>
        <p:blipFill>
          <a:blip r:embed="rId1"/>
          <a:stretch/>
        </p:blipFill>
        <p:spPr>
          <a:xfrm>
            <a:off x="2209680" y="380880"/>
            <a:ext cx="4800600" cy="5029200"/>
          </a:xfrm>
          <a:prstGeom prst="rect">
            <a:avLst/>
          </a:prstGeom>
          <a:ln w="0">
            <a:noFill/>
          </a:ln>
        </p:spPr>
      </p:pic>
      <p:sp>
        <p:nvSpPr>
          <p:cNvPr id="49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4" descr="dglxasset[5]"/>
          <p:cNvPicPr/>
          <p:nvPr/>
        </p:nvPicPr>
        <p:blipFill>
          <a:blip r:embed="rId1"/>
          <a:stretch/>
        </p:blipFill>
        <p:spPr>
          <a:xfrm>
            <a:off x="2057400" y="228600"/>
            <a:ext cx="4267080" cy="4952880"/>
          </a:xfrm>
          <a:prstGeom prst="rect">
            <a:avLst/>
          </a:prstGeom>
          <a:ln w="0">
            <a:noFill/>
          </a:ln>
        </p:spPr>
      </p:pic>
      <p:sp>
        <p:nvSpPr>
          <p:cNvPr id="49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895480"/>
            <a:ext cx="7772400" cy="1432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at would be just the right kind of room for u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5" descr="dglxasset[1]"/>
          <p:cNvPicPr/>
          <p:nvPr/>
        </p:nvPicPr>
        <p:blipFill>
          <a:blip r:embed="rId1"/>
          <a:stretch/>
        </p:blipFill>
        <p:spPr>
          <a:xfrm>
            <a:off x="2209680" y="380880"/>
            <a:ext cx="4800600" cy="5029200"/>
          </a:xfrm>
          <a:prstGeom prst="rect">
            <a:avLst/>
          </a:prstGeom>
          <a:ln w="0">
            <a:noFill/>
          </a:ln>
        </p:spPr>
      </p:pic>
      <p:sp>
        <p:nvSpPr>
          <p:cNvPr id="49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dglxasset[5]"/>
          <p:cNvPicPr/>
          <p:nvPr/>
        </p:nvPicPr>
        <p:blipFill>
          <a:blip r:embed="rId1"/>
          <a:stretch/>
        </p:blipFill>
        <p:spPr>
          <a:xfrm>
            <a:off x="2057400" y="228600"/>
            <a:ext cx="4267080" cy="4952880"/>
          </a:xfrm>
          <a:prstGeom prst="rect">
            <a:avLst/>
          </a:prstGeom>
          <a:ln w="0">
            <a:noFill/>
          </a:ln>
        </p:spPr>
      </p:pic>
      <p:sp>
        <p:nvSpPr>
          <p:cNvPr id="50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124080"/>
            <a:ext cx="7772400" cy="1432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After he read, he would show them how to writ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5" descr="dglxasset[1]"/>
          <p:cNvPicPr/>
          <p:nvPr/>
        </p:nvPicPr>
        <p:blipFill>
          <a:blip r:embed="rId1"/>
          <a:stretch/>
        </p:blipFill>
        <p:spPr>
          <a:xfrm>
            <a:off x="2209680" y="380880"/>
            <a:ext cx="4800600" cy="5029200"/>
          </a:xfrm>
          <a:prstGeom prst="rect">
            <a:avLst/>
          </a:prstGeom>
          <a:ln w="0">
            <a:noFill/>
          </a:ln>
        </p:spPr>
      </p:pic>
      <p:sp>
        <p:nvSpPr>
          <p:cNvPr id="50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4" descr="dglxasset[5]"/>
          <p:cNvPicPr/>
          <p:nvPr/>
        </p:nvPicPr>
        <p:blipFill>
          <a:blip r:embed="rId1"/>
          <a:stretch/>
        </p:blipFill>
        <p:spPr>
          <a:xfrm>
            <a:off x="2057400" y="228600"/>
            <a:ext cx="4267080" cy="4952880"/>
          </a:xfrm>
          <a:prstGeom prst="rect">
            <a:avLst/>
          </a:prstGeom>
          <a:ln w="0">
            <a:noFill/>
          </a:ln>
        </p:spPr>
      </p:pic>
      <p:sp>
        <p:nvSpPr>
          <p:cNvPr id="50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429000"/>
            <a:ext cx="7772400" cy="1432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fter the fire, the color on the end of each ear didn’t look the same.</a:t>
            </a:r>
            <a:endParaRPr b="0" lang="en-US" sz="5400" spc="-1" strike="noStrike">
              <a:solidFill>
                <a:srgbClr val="000000"/>
              </a:solidFill>
              <a:latin typeface="Calibri"/>
            </a:endParaRPr>
          </a:p>
        </p:txBody>
      </p:sp>
      <p:sp>
        <p:nvSpPr>
          <p:cNvPr id="5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Action Button: Custom 3"/>
          <p:cNvSpPr/>
          <p:nvPr/>
        </p:nvSpPr>
        <p:spPr>
          <a:xfrm>
            <a:off x="7467480" y="5562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5" descr="dglxasset[1]"/>
          <p:cNvPicPr/>
          <p:nvPr/>
        </p:nvPicPr>
        <p:blipFill>
          <a:blip r:embed="rId1"/>
          <a:stretch/>
        </p:blipFill>
        <p:spPr>
          <a:xfrm>
            <a:off x="2209680" y="380880"/>
            <a:ext cx="4800600" cy="5029200"/>
          </a:xfrm>
          <a:prstGeom prst="rect">
            <a:avLst/>
          </a:prstGeom>
          <a:ln w="0">
            <a:noFill/>
          </a:ln>
        </p:spPr>
      </p:pic>
      <p:sp>
        <p:nvSpPr>
          <p:cNvPr id="51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4" descr="dglxasset[5]"/>
          <p:cNvPicPr/>
          <p:nvPr/>
        </p:nvPicPr>
        <p:blipFill>
          <a:blip r:embed="rId1"/>
          <a:stretch/>
        </p:blipFill>
        <p:spPr>
          <a:xfrm>
            <a:off x="2057400" y="228600"/>
            <a:ext cx="4267080" cy="4952880"/>
          </a:xfrm>
          <a:prstGeom prst="rect">
            <a:avLst/>
          </a:prstGeom>
          <a:ln w="0">
            <a:noFill/>
          </a:ln>
        </p:spPr>
      </p:pic>
      <p:sp>
        <p:nvSpPr>
          <p:cNvPr id="51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sentenc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reads all of the word correctly within 3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sentence)</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130120"/>
            <a:ext cx="82296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is is too funny!</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819160"/>
            <a:ext cx="7772400" cy="14317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ake off most of the second part, it seems longer than your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5" descr="dglxasset[1]"/>
          <p:cNvPicPr/>
          <p:nvPr/>
        </p:nvPicPr>
        <p:blipFill>
          <a:blip r:embed="rId1"/>
          <a:stretch/>
        </p:blipFill>
        <p:spPr>
          <a:xfrm>
            <a:off x="2209680" y="380880"/>
            <a:ext cx="4800600" cy="5029200"/>
          </a:xfrm>
          <a:prstGeom prst="rect">
            <a:avLst/>
          </a:prstGeom>
          <a:ln w="0">
            <a:noFill/>
          </a:ln>
        </p:spPr>
      </p:pic>
      <p:sp>
        <p:nvSpPr>
          <p:cNvPr id="52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glxasset[5]"/>
          <p:cNvPicPr/>
          <p:nvPr/>
        </p:nvPicPr>
        <p:blipFill>
          <a:blip r:embed="rId1"/>
          <a:stretch/>
        </p:blipFill>
        <p:spPr>
          <a:xfrm>
            <a:off x="2057400" y="228600"/>
            <a:ext cx="4267080" cy="4952880"/>
          </a:xfrm>
          <a:prstGeom prst="rect">
            <a:avLst/>
          </a:prstGeom>
          <a:ln w="0">
            <a:noFill/>
          </a:ln>
        </p:spPr>
      </p:pic>
      <p:sp>
        <p:nvSpPr>
          <p:cNvPr id="52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e has something new.</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130120"/>
            <a:ext cx="807732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on he made many friends.</a:t>
            </a:r>
            <a:br>
              <a:rPr sz="4000"/>
            </a:br>
            <a:endParaRPr b="0" lang="en-US" sz="72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130120"/>
            <a:ext cx="861048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at did you bring?</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sentence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Every door was open to him.</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ir friend was an old woman.</a:t>
            </a:r>
            <a:br>
              <a:rPr sz="7200"/>
            </a:br>
            <a:endParaRPr b="0" lang="en-US" sz="72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oday you must start your morning early.</a:t>
            </a:r>
            <a:br>
              <a:rPr sz="7200"/>
            </a:br>
            <a:endParaRPr b="0" lang="en-US" sz="72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any words if it i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30 seconds to read each sentence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3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7772400" cy="43275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I will look in every school in town.</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838080"/>
            <a:ext cx="7772400" cy="3794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e will find something better.</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066680"/>
            <a:ext cx="7772400" cy="3794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s he went on, he saw a little girl.</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447920"/>
            <a:ext cx="8686800" cy="27432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e use so much.</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85800"/>
            <a:ext cx="7772400" cy="37339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She found a small black ball.</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48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old this little dog and I will help you.</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6858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I will make it grow well agai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837720"/>
            <a:ext cx="7772400" cy="259092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r>
              <a:rPr b="0" lang="en-US" sz="8000" spc="-1" strike="noStrike">
                <a:solidFill>
                  <a:srgbClr val="000000"/>
                </a:solidFill>
                <a:latin typeface="Calibri"/>
              </a:rPr>
              <a:t>What a pretty hat,” she said.</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800"/>
            <a:ext cx="7772400" cy="3565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Some said it was best to s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72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But I do not know how hard to pull i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800"/>
            <a:ext cx="7772400" cy="3718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 he gave her the money and went on.</a:t>
            </a:r>
            <a:endParaRPr b="0" lang="en-US" sz="72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480"/>
            <a:ext cx="7772400" cy="3794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ile some said fine green food was bes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8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hould we ask them all to turn anything in?</a:t>
            </a:r>
            <a:endParaRPr b="0" lang="en-US" sz="72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151920"/>
            <a:ext cx="7772400" cy="4784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Just before the year was done, he went home agai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130120"/>
            <a:ext cx="82296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Please show me.</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762120"/>
            <a:ext cx="7772400" cy="36576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 people would call to him to stop.</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800"/>
            <a:ext cx="7772400" cy="371808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me liked the red and white flowers bes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920"/>
            <a:ext cx="7772400" cy="493704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One man said the best thing was to ride high on hop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371600"/>
            <a:ext cx="7772400" cy="32608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y would ask him to come and eat with them.</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62120"/>
            <a:ext cx="7772400" cy="44035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After she ate, she would sit down and read to the bo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43275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He would always stop to help people who could not hea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cd63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8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Please don’t stand by the water.</a:t>
            </a:r>
            <a:endParaRPr b="0" lang="en-US" sz="80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1:43Z</dcterms:modified>
  <cp:revision>27</cp:revision>
  <dc:subject/>
  <dc:title>First Grade High Frequency Words</dc:title>
</cp:coreProperties>
</file>